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4E2A5-98AE-498C-9533-67A3C06604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b0ff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46FBE-55FC-40D1-AFDA-7BC90140B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43212-1B2C-4A4F-87D3-D3028A51A916}" type="slidenum">
              <a:rPr b="0" lang="en-US" sz="1200" spc="-1" strike="noStrike">
                <a:solidFill>
                  <a:srgbClr val="00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bcb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F659D-CCFC-40E8-B3F2-E28560E261A9}" type="slidenum">
              <a:rPr b="0" lang="en-US" sz="1200" spc="-1" strike="noStrike">
                <a:solidFill>
                  <a:srgbClr val="00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bcbc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9B9C7-76B8-41E6-87B8-1EADB1BF5507}" type="slidenum">
              <a:rPr b="0" lang="en-US" sz="1200" spc="-1" strike="noStrike">
                <a:solidFill>
                  <a:srgbClr val="00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bcb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C2D-67DF-4D55-9583-A6C3377E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19D-2218-404E-8AF5-4BE8D32A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42E-551F-47B1-9C04-8C5724F7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DD1-D00F-4E46-AD62-8EC62435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5B2C-76C7-4F7D-AABE-30D0EC12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7FA9-204D-4D78-ACE0-27828F43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AE46-A4FA-40CD-BE67-35FC808D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C9E2-75D3-4012-ACA3-36A1DCC9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C9D8-2CB3-4C9E-B0C9-CDEB3566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FFA7-94BC-4435-83DB-AD8FC346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A735-C832-4304-9E61-01636D79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B27-7FD3-4B92-B018-7BBD29A8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94C9-48FB-43DB-8579-22A0FE9D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74FB-B600-4184-A780-063EFFF2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A445-DA40-46B8-939D-1028D10B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A7EC-BBC3-4D04-988B-CFF3EDFE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C7A4-FAD0-4622-A0FA-6CD70EFD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C764-6239-43AA-9293-9C3235E0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D5651-6953-4245-B560-486F6ACC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D72F7-E0A4-4662-86A5-B093E1E8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8E4CA-E885-431E-8500-0FB4B8E3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C6BCD-7379-435A-959E-6C483978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CC6-EC4C-4DDF-9FC4-C707410B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7FB5A-A4D3-4C17-AEAB-A0F97292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50971-0C9C-46F2-8405-61E0654F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4B639-9A8A-44A6-8402-F62EEA78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08D47-7C68-467A-B100-59D7CE08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0B80-0F2D-415A-A584-76FCADB1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78C2-68B5-44FF-BF41-A20D92E9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517FE-6708-4A48-A58A-B4C3F28F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564B8-0781-4F04-8628-BCC1CFE7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EFD88-7CCA-468E-9562-0146824F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0A43B-D060-4F97-8BC4-6A66CE20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857-D4B4-4019-B417-5D5FDCAD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C6870-94A2-4E6F-9DBF-16C525B7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87BAF-C963-4262-A34D-97BB9B0D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01F71-398C-4E55-87FB-A1DE69B2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4430B-3C22-4127-9240-C2C1C034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088B-D881-4220-AB10-68575957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5C997-BB95-4081-A7DF-DFCA7DA0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B6EBC-255E-47C0-958B-64D28D60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C795-E88D-4EF5-9F75-6B929FF6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F118B-F7AA-4463-87B8-1BC136BF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EB462-4649-4C2A-BDCB-34F2E4B9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790-3887-490F-B978-DCC56FE0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AA2F5-AB52-4529-AA60-9242C697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DE436-914C-4CFB-90CC-5C73638F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283C4-12F4-46DB-B7A4-7FE8CE8B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E591B-0476-4886-A5D4-CE18BB5E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4B705-5334-43C0-B050-896811CA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2A817-58FC-4F26-8542-5E9A2CB6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A51E3-05C5-4E16-8D1A-BA9C202F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FBBFF-DE15-4012-ADD0-CBD6DC30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CDFC0-08FE-435A-90F1-56DAB84C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B4BD5-595C-4DA4-B97A-C896FEF1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8C8-1E7A-486C-A7D4-3A6A77C6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C9DB5-B0DC-4578-BECD-6CFC3025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EDAF7-E524-4028-9FBC-56B0BD0F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9E844-E77C-4D3A-A739-C3506F04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77A0C-7C37-486E-8367-A847BFD2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DE053-2C47-4C42-961C-5D7D7289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2BA3F-6D76-44C2-8CC7-E43EA80D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B239B-7E4B-4F7E-8FD3-28DCEECC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2FDC0-83A5-4985-B3CC-1F715E34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CAE62-D568-451E-87A2-78242E48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29721-40E9-46F6-89AC-26A95ED9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4BD-2AF8-44B7-A4B2-F0BE0B67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4FCD9-850F-4A8A-B5FC-4C99784C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F79E2-16A8-44C3-95BC-145E3D96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E938E-3274-4329-88AD-DA1D00AB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CF031-A672-47EC-8B79-EBFFF27E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71193-3922-423F-BD35-1B80FE2C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01763-D49E-4FA7-9E02-E16B56F9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AB29E-3D48-4145-AB88-0316CFF7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7AEE8-530E-4C61-A928-2A6497C1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23EF2-99A5-450C-B885-E8570C46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AABDB-E1BC-4FF4-9876-8F0D00CB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0D2-D36E-4625-B253-573B3BA7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BE596-3853-4C3D-BF8F-5FE00BFC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BA896-15A5-42B9-82AB-0630AEC9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1968C-D285-4ADF-B066-BF081E40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74F10-5029-4ED4-B8D9-AF80D8AE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B04C6-A66E-44DF-90E4-80DA9782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5D52-C806-44C3-8A6B-0363DD4D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b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5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6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F2911-210B-480F-B3D8-4F80171EF8BC}" type="datetime">
              <a:rPr b="0" lang="en-US" sz="1200" spc="-1" strike="noStrike">
                <a:solidFill>
                  <a:srgbClr val="3fc0c0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01E52-E4DF-48A0-963B-53F9D6E095C7}" type="slidenum">
              <a:rPr b="0" lang="en-US" sz="1200" spc="-1" strike="noStrike">
                <a:solidFill>
                  <a:srgbClr val="3fc0c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b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38650-2706-403B-932E-9CF812713D21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36190-CD9D-4B90-84F9-D618B7E1D33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b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4D628-299A-4DCA-BC57-D461A1B79300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14BA6-91A1-49D1-BCA4-18AC6DFC5C65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b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5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6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C0B22-8B08-4547-A35B-8DDE5B46AAEA}" type="datetime">
              <a:rPr b="0" lang="en-US" sz="1200" spc="-1" strike="noStrike">
                <a:solidFill>
                  <a:srgbClr val="3fc0c0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F810E-EB12-435A-A878-B9B2B7B551E5}" type="slidenum">
              <a:rPr b="0" lang="en-US" sz="1200" spc="-1" strike="noStrike">
                <a:solidFill>
                  <a:srgbClr val="3fc0c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b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5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6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9990A-C1FB-4E5C-8393-E11EBC9776A3}" type="datetime">
              <a:rPr b="0" lang="en-US" sz="1200" spc="-1" strike="noStrike">
                <a:solidFill>
                  <a:srgbClr val="3fc0c0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62F63-B5CA-4C73-8366-5A9CAB3DAE7F}" type="slidenum">
              <a:rPr b="0" lang="en-US" sz="1200" spc="-1" strike="noStrike">
                <a:solidFill>
                  <a:srgbClr val="3fc0c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b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5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6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1C430-9B94-4087-A403-AAB9D0527E55}" type="datetime">
              <a:rPr b="0" lang="en-US" sz="1200" spc="-1" strike="noStrike">
                <a:solidFill>
                  <a:srgbClr val="3fc0c0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FA0A8-407C-47B0-BAAC-22A80D5BD1D7}" type="slidenum">
              <a:rPr b="0" lang="en-US" sz="1200" spc="-1" strike="noStrike">
                <a:solidFill>
                  <a:srgbClr val="3fc0c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b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66b0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5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lvl="6" marL="1425600" indent="-182520">
              <a:buClr>
                <a:srgbClr val="00bcb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cb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A225D-B5B5-48E3-B66B-A3D5202EFCA0}" type="datetime">
              <a:rPr b="0" lang="en-US" sz="1200" spc="-1" strike="noStrike">
                <a:solidFill>
                  <a:srgbClr val="3fc0c0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c0c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2A931-25B8-4167-AAFA-F7205383BDBD}" type="slidenum">
              <a:rPr b="0" lang="en-US" sz="1200" spc="-1" strike="noStrike">
                <a:solidFill>
                  <a:srgbClr val="3fc0c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1c5698"/>
                </a:solidFill>
                <a:latin typeface="Corbel"/>
              </a:rPr>
              <a:t>What is the difference between prokaryotic and eukaryotic cells?</a:t>
            </a:r>
            <a:endParaRPr b="0" lang="en-US" sz="55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c5698"/>
                </a:solidFill>
                <a:uFillTx/>
                <a:latin typeface="Corbel"/>
              </a:rPr>
              <a:t>DNA is very important because it is the directions for making different parts of our bodies.</a:t>
            </a:r>
            <a:endParaRPr b="0" lang="en-US" sz="44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cbc"/>
              </a:solidFill>
              <a:latin typeface="Corbe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2"/>
          <a:stretch/>
        </p:blipFill>
        <p:spPr>
          <a:xfrm>
            <a:off x="4572000" y="4049640"/>
            <a:ext cx="35434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1c5698"/>
                </a:solidFill>
                <a:latin typeface="Corbel"/>
              </a:rPr>
              <a:t>Why do we need DNA?</a:t>
            </a:r>
            <a:endParaRPr b="0" lang="en-US" sz="57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0720" y="2494080"/>
            <a:ext cx="824256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419360" cy="44956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7"/>
          <p:cNvSpPr/>
          <p:nvPr/>
        </p:nvSpPr>
        <p:spPr>
          <a:xfrm>
            <a:off x="7620120" y="1828800"/>
            <a:ext cx="7617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bcbc"/>
                </a:solidFill>
                <a:latin typeface="Constantia"/>
              </a:rPr>
              <a:t>2</a:t>
            </a:r>
            <a:endParaRPr b="0" lang="en-US" sz="3700" spc="-1" strike="noStrike">
              <a:solidFill>
                <a:srgbClr val="00bcbc"/>
              </a:solidFill>
              <a:latin typeface="Arial"/>
            </a:endParaRPr>
          </a:p>
        </p:txBody>
      </p:sp>
      <p:pic>
        <p:nvPicPr>
          <p:cNvPr id="344" name="Title 6" descr=""/>
          <p:cNvPicPr/>
          <p:nvPr/>
        </p:nvPicPr>
        <p:blipFill>
          <a:blip r:embed="rId2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3809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219240" y="2505240"/>
            <a:ext cx="85834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4617b"/>
                </a:solidFill>
                <a:latin typeface="Corbel"/>
              </a:rPr>
              <a:t>What organelle do eukaryotic and prokaryotic cells both have?</a:t>
            </a:r>
            <a:endParaRPr b="0" lang="en-US" sz="61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"/>
          <p:cNvPicPr/>
          <p:nvPr/>
        </p:nvPicPr>
        <p:blipFill>
          <a:blip r:embed="rId1"/>
          <a:stretch/>
        </p:blipFill>
        <p:spPr>
          <a:xfrm>
            <a:off x="4768920" y="2133720"/>
            <a:ext cx="4375080" cy="44830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380880" y="457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Corbel"/>
              </a:rPr>
              <a:t>R5</a:t>
            </a:r>
            <a:endParaRPr b="0" lang="en-US" sz="4400" spc="-1" strike="noStrike">
              <a:solidFill>
                <a:srgbClr val="00bcbc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372960" y="1828800"/>
            <a:ext cx="419904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800" spc="-1" strike="noStrike">
                <a:solidFill>
                  <a:srgbClr val="04617b"/>
                </a:solidFill>
                <a:latin typeface="Constantia"/>
              </a:rPr>
              <a:t>How would you classify this cell? Why?</a:t>
            </a:r>
            <a:endParaRPr b="0" lang="en-US" sz="5800" spc="-1" strike="noStrike">
              <a:solidFill>
                <a:srgbClr val="00bc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698"/>
                </a:solidFill>
                <a:latin typeface="Corbel"/>
              </a:rPr>
              <a:t>1. Anticipatory Set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698"/>
                </a:solidFill>
                <a:latin typeface="Corbel"/>
              </a:rPr>
              <a:t>2. Objective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698"/>
                </a:solidFill>
                <a:latin typeface="Corbel"/>
              </a:rPr>
              <a:t>3. Input – notes on the nucleus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698"/>
                </a:solidFill>
                <a:latin typeface="Corbel"/>
              </a:rPr>
              <a:t>4. Guided practice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698"/>
                </a:solidFill>
                <a:latin typeface="Corbel"/>
              </a:rPr>
              <a:t>5. Independent Practice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5698"/>
                </a:solidFill>
                <a:latin typeface="Corbel"/>
              </a:rPr>
              <a:t>6. Closing and Review</a:t>
            </a:r>
            <a:endParaRPr b="0" lang="en-US" sz="32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5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4617b"/>
                </a:solidFill>
                <a:latin typeface="Corbel"/>
              </a:rPr>
              <a:t>You look through a microscope and see a cell that has a cell wall, ribosomes, cytoplasm, but no nucleus.  Should you classify this cell as prokaryotic or eukaryotic?</a:t>
            </a:r>
            <a:endParaRPr b="0" lang="en-US" sz="43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2"/>
          <a:stretch/>
        </p:blipFill>
        <p:spPr>
          <a:xfrm>
            <a:off x="682560" y="3333600"/>
            <a:ext cx="808344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cbc"/>
                </a:solidFill>
                <a:latin typeface="Corbel"/>
              </a:rPr>
              <a:t>	</a:t>
            </a:r>
            <a:r>
              <a:rPr b="0" lang="en-US" sz="4000" spc="-1" strike="noStrike">
                <a:solidFill>
                  <a:srgbClr val="1c5698"/>
                </a:solidFill>
                <a:latin typeface="Corbel"/>
              </a:rPr>
              <a:t>Form and Function</a:t>
            </a:r>
            <a:endParaRPr b="0" lang="en-US" sz="4000" spc="-1" strike="noStrike">
              <a:solidFill>
                <a:srgbClr val="00bcbc"/>
              </a:solidFill>
              <a:latin typeface="Corbel"/>
            </a:endParaRPr>
          </a:p>
          <a:p>
            <a:pPr lvl="1" marL="678960" indent="-253440">
              <a:spcBef>
                <a:spcPts val="1001"/>
              </a:spcBef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698"/>
                </a:solidFill>
                <a:latin typeface="Corbel"/>
              </a:rPr>
              <a:t>The form is how something is shaped</a:t>
            </a:r>
            <a:endParaRPr b="0" lang="en-US" sz="4000" spc="-1" strike="noStrike">
              <a:solidFill>
                <a:srgbClr val="00bcbc"/>
              </a:solidFill>
              <a:latin typeface="Corbel"/>
            </a:endParaRPr>
          </a:p>
          <a:p>
            <a:pPr lvl="2" marL="925560" indent="-212400">
              <a:spcBef>
                <a:spcPts val="601"/>
              </a:spcBef>
              <a:buClr>
                <a:srgbClr val="de6c36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5698"/>
                </a:solidFill>
                <a:latin typeface="Corbel"/>
              </a:rPr>
              <a:t>Form of an iPOD: a rectangular metal case which holds electronics</a:t>
            </a:r>
            <a:endParaRPr b="0" lang="en-US" sz="2400" spc="-1" strike="noStrike">
              <a:solidFill>
                <a:srgbClr val="00bcbc"/>
              </a:solidFill>
              <a:latin typeface="Corbel"/>
            </a:endParaRPr>
          </a:p>
          <a:p>
            <a:pPr lvl="1" marL="678960" indent="-253440">
              <a:spcBef>
                <a:spcPts val="1001"/>
              </a:spcBef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5698"/>
                </a:solidFill>
                <a:latin typeface="Corbel"/>
              </a:rPr>
              <a:t>The function is what is used for…it’s purpose.</a:t>
            </a:r>
            <a:endParaRPr b="0" lang="en-US" sz="4000" spc="-1" strike="noStrike">
              <a:solidFill>
                <a:srgbClr val="00bcbc"/>
              </a:solidFill>
              <a:latin typeface="Corbel"/>
            </a:endParaRPr>
          </a:p>
          <a:p>
            <a:pPr lvl="2" marL="925560" indent="-212400">
              <a:spcBef>
                <a:spcPts val="751"/>
              </a:spcBef>
              <a:buClr>
                <a:srgbClr val="de6c36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5698"/>
                </a:solidFill>
                <a:latin typeface="Corbel"/>
              </a:rPr>
              <a:t>Function of an iPOD: an iPOD is used to play music and is often used when someone is </a:t>
            </a:r>
            <a:r>
              <a:rPr b="0" lang="en-US" sz="3000" spc="-1" strike="noStrike">
                <a:solidFill>
                  <a:srgbClr val="1c5698"/>
                </a:solidFill>
                <a:latin typeface="Corbel"/>
              </a:rPr>
              <a:t>studying, exercising or other times.  It is small so it can be carried around.</a:t>
            </a:r>
            <a:endParaRPr b="0" lang="en-US" sz="30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1c5698"/>
                </a:solidFill>
                <a:uFillTx/>
                <a:latin typeface="Corbel"/>
              </a:rPr>
              <a:t>The nucleus controls everything that happens in a cell. It is the brain of a cell because it stores all of the genetic material.   We call genetic material DNA. </a:t>
            </a:r>
            <a:endParaRPr b="0" lang="en-US" sz="45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bcbc"/>
              </a:solidFill>
              <a:latin typeface="Corbe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618160" y="-106200"/>
            <a:ext cx="35258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031760" indent="-914400">
              <a:buClr>
                <a:srgbClr val="80b1e8"/>
              </a:buClr>
              <a:buSzPct val="80000"/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c5698"/>
                </a:solidFill>
                <a:latin typeface="Corbel"/>
              </a:rPr>
              <a:t>What is a function?</a:t>
            </a:r>
            <a:endParaRPr b="0" lang="en-US" sz="5000" spc="-1" strike="noStrike">
              <a:solidFill>
                <a:srgbClr val="00bcbc"/>
              </a:solidFill>
              <a:latin typeface="Corbel"/>
            </a:endParaRPr>
          </a:p>
          <a:p>
            <a:pPr marL="1031760" indent="-914400">
              <a:buClr>
                <a:srgbClr val="80b1e8"/>
              </a:buClr>
              <a:buSzPct val="80000"/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c5698"/>
                </a:solidFill>
                <a:latin typeface="Corbel"/>
              </a:rPr>
              <a:t>What is the function of the nucleus?</a:t>
            </a:r>
            <a:endParaRPr b="0" lang="en-US" sz="5000" spc="-1" strike="noStrike">
              <a:solidFill>
                <a:srgbClr val="00bcbc"/>
              </a:solidFill>
              <a:latin typeface="Corbel"/>
            </a:endParaRPr>
          </a:p>
          <a:p>
            <a:pPr marL="1031760" indent="-914400">
              <a:buClr>
                <a:srgbClr val="80b1e8"/>
              </a:buClr>
              <a:buSzPct val="80000"/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c5698"/>
                </a:solidFill>
                <a:latin typeface="Corbel"/>
              </a:rPr>
              <a:t>What is DNA?</a:t>
            </a:r>
            <a:endParaRPr b="0" lang="en-US" sz="50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1c5698"/>
                </a:solidFill>
                <a:uFillTx/>
                <a:latin typeface="Corbel"/>
              </a:rPr>
              <a:t>In prokaryotes DNA is found in the nucleoid.</a:t>
            </a:r>
            <a:endParaRPr b="0" lang="en-US" sz="42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1c5698"/>
                </a:solidFill>
                <a:uFillTx/>
                <a:latin typeface="Corbel"/>
              </a:rPr>
              <a:t>In eukaryotes DNA is found in the nucleus.</a:t>
            </a:r>
            <a:endParaRPr b="0" lang="en-US" sz="4200" spc="-1" strike="noStrike">
              <a:solidFill>
                <a:srgbClr val="00bcbc"/>
              </a:solidFill>
              <a:latin typeface="Corbel"/>
            </a:endParaRPr>
          </a:p>
          <a:p>
            <a:pPr marL="438120" indent="-318960"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bcbc"/>
              </a:solidFill>
              <a:latin typeface="Corbe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4572000" y="4314960"/>
            <a:ext cx="1509840" cy="1600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6935760" y="4314960"/>
            <a:ext cx="175104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200628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90000"/>
              </a:lnSpc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c5698"/>
                </a:solidFill>
                <a:uFillTx/>
                <a:latin typeface="Corbel"/>
              </a:rPr>
              <a:t>A nucleus is enclosed by the nuclear envelope which helps protect the DNA. </a:t>
            </a:r>
            <a:endParaRPr b="0" lang="en-US" sz="4400" spc="-1" strike="noStrike">
              <a:solidFill>
                <a:srgbClr val="00bcbc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c5698"/>
                </a:solidFill>
                <a:uFillTx/>
                <a:latin typeface="Corbel"/>
              </a:rPr>
              <a:t>A nucleoid is not enclosed by a membrane; instead the DNA just bunches together with nothing to contain it.</a:t>
            </a:r>
            <a:endParaRPr b="0" lang="en-US" sz="4400" spc="-1" strike="noStrike">
              <a:solidFill>
                <a:srgbClr val="00bcbc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80b1e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cbc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5329080" y="0"/>
            <a:ext cx="2025720" cy="2146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3"/>
          <a:stretch/>
        </p:blipFill>
        <p:spPr>
          <a:xfrm>
            <a:off x="6945480" y="0"/>
            <a:ext cx="21985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31800" indent="-514440">
              <a:buClr>
                <a:srgbClr val="80b1e8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c5698"/>
                </a:solidFill>
                <a:latin typeface="Corbel"/>
              </a:rPr>
              <a:t>What is the difference between the location of DNA in prokaryotes and in eukaryotes?</a:t>
            </a:r>
            <a:endParaRPr b="0" lang="en-US" sz="3800" spc="-1" strike="noStrike">
              <a:solidFill>
                <a:srgbClr val="00bcbc"/>
              </a:solidFill>
              <a:latin typeface="Corbel"/>
            </a:endParaRPr>
          </a:p>
          <a:p>
            <a:pPr marL="631800" indent="-514440">
              <a:buClr>
                <a:srgbClr val="80b1e8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c5698"/>
                </a:solidFill>
                <a:latin typeface="Corbel"/>
              </a:rPr>
              <a:t>Does a nucleus have a nuclear envelope?</a:t>
            </a:r>
            <a:endParaRPr b="0" lang="en-US" sz="3800" spc="-1" strike="noStrike">
              <a:solidFill>
                <a:srgbClr val="00bcbc"/>
              </a:solidFill>
              <a:latin typeface="Corbel"/>
            </a:endParaRPr>
          </a:p>
          <a:p>
            <a:pPr marL="631800" indent="-514440">
              <a:buClr>
                <a:srgbClr val="80b1e8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c5698"/>
                </a:solidFill>
                <a:latin typeface="Corbel"/>
              </a:rPr>
              <a:t>Does a nucleoid have a nuclear envelope?</a:t>
            </a:r>
            <a:endParaRPr b="0" lang="en-US" sz="3800" spc="-1" strike="noStrike">
              <a:solidFill>
                <a:srgbClr val="00bcb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3:10:36Z</dcterms:created>
  <dc:creator>Caroline Roth</dc:creator>
  <dc:description/>
  <dc:language>en-US</dc:language>
  <cp:lastModifiedBy>Caroline Roth</cp:lastModifiedBy>
  <dcterms:modified xsi:type="dcterms:W3CDTF">2011-05-24T01:17:48Z</dcterms:modified>
  <cp:revision>6</cp:revision>
  <dc:subject/>
  <dc:title>Slide 1</dc:title>
</cp:coreProperties>
</file>